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E405-8691-4B53-BB3E-82AA8E43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29F-275D-43DF-96D6-F420A375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5DEA-5582-4088-AC63-B8C14D8D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7D47-63DF-44F0-AA0A-E2C42A8A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F7D36-37A3-4FFB-AA4A-4E76146E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C9404-DA1F-4F43-AFE5-1E5CCFAF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D2FEF-043E-4F4A-8D14-EBB0C53F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73A4A-DB64-40FA-9C37-8C0A158B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C035C-96A6-4A84-ADB8-7C20D09F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A4A9D-1EE4-4505-83F9-D3F573AD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649BF-E412-4618-B205-35DE205A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A30-9B4F-444D-AF58-082859BE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D53BA-3E24-469D-A2AA-B8DE8BD0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D1FE1-A17E-4C16-ACA2-57402712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49D84-A809-4A5F-BE34-A3E58503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75CBA-C06F-4876-863E-0C070BD2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5EFCC-DD44-471C-9C08-BCB790AB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DA31-7FD3-429C-95D3-41175543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710-7F86-412D-AEEB-0D608BF7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65B-8C8F-4308-9159-CE3BB95F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2B02-47D4-4051-BC92-504959D4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035-A98D-4F8B-89D7-2DCA1371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799-B3FC-4868-AE50-4BA474DB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1EC-4A14-42B5-9149-C2AE7924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C4F6-83A7-4D4A-AF6D-CFFE4E8B9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2C0B-1C02-4139-B1B4-6587458D3F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ANATATEA PLANETEI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ANATATEA NOAST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itorul planetei depinde de t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ei sa faci ceva pentru a-l salv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UAREA AERULU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isii de fum si gaze tox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isii de dioxid de carb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a incalzirea globala-efectul de se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581280" y="190512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UAREA SOLULU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grasaminte chim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tic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euri menaj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euri industri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tante radio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1880" y="2700360"/>
            <a:ext cx="40291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UAREA APE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tante chimice rezultate ca urmare a activitatilor industri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tante radio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tante si deseuri rezultate din activitatile gospodare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2444760"/>
            <a:ext cx="40384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OMBATEREA POLUAR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I SI REGULAMENTE INTERNATIONA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TII CARE LUPTA IMPOTRIVA POLUARII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ULAREA DE PROGRAME REGION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CATIA ECOLOGICA A POPULATIE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A ECOLOGICAIN SCO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 POT FACE EU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c curatenie in jurul me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unc gunoaiele in locuri special amenaj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ntez flori si copac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au atitudine cand altii polueaz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c desene, afise, spectacole pentru a-i sensibiliza pe cei din ju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91628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8400" y="1905120"/>
            <a:ext cx="247644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183280" y="1905120"/>
            <a:ext cx="2967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05:54:55Z</dcterms:created>
  <dc:creator>cursant</dc:creator>
  <dc:description/>
  <dc:language>en-US</dc:language>
  <cp:lastModifiedBy>cursant</cp:lastModifiedBy>
  <dcterms:modified xsi:type="dcterms:W3CDTF">2010-09-02T08:34:44Z</dcterms:modified>
  <cp:revision>15</cp:revision>
  <dc:subject/>
  <dc:title>POLUAREA  MEDIULUI</dc:title>
</cp:coreProperties>
</file>